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E6D6-3303-4BBA-9CDC-0229E225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1D5-E86E-4049-8838-D3E69232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C244-FF83-42E7-A1B3-B9796CFE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FFB8-A792-42B4-A03F-D20F9BF3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57C4-41B9-46A5-A58F-040D720A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8355-B81B-4B82-B761-AAB34963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F165-E970-4E6F-AD75-2A459211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1CD9-3752-402F-8ED4-55D4C21A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DF1A-ADF2-46D9-8E72-9976A9BD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FC57-801A-463F-A5A9-5636100E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0673-E77C-4A36-9790-D2D2016B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7BA6-4AC3-4348-A184-7AE94857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6295-0B58-420A-BFA6-161D31EA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30B5-F66E-4A68-969A-E73C7D97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9EA1-B25F-4788-A7B1-0B8CCE6E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2156-E3E7-4B3D-802D-AEB6C7F1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8945-D8FD-4ED7-9973-AFCE83B6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567C4-8343-42D2-A9C4-27353105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9ABCC-6F98-4F62-AAE9-970B42C9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B2B4A-1ADF-49D2-BBFC-F51F51BA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7F652-2609-4652-9526-D0541960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2C18A-1F88-4B88-9946-EF4E4F51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30C1-84A5-45BD-BEEF-C07B05BB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D6FDB-B332-46C8-9DD1-F14448EE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B22D1-3511-495E-803C-FE94F1EC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CE61F-CB50-4DF4-8E18-A5001DBF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5AD75-9E46-4A48-BDD2-1EF86357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7C608-CE75-4035-9C02-0F4FC488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AAA1E-1FC3-4A55-B6B3-9C8AC4B6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BE8B3-4FAF-4626-9FEE-C2D2AC03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75FC-4446-427A-81B5-3E642A6D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41A0-2587-4C16-8DDA-6FECB80D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39E5-8CAA-4B4E-9CD1-8741EA16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05E9-6B8E-4CAD-868B-EBD22B6D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6CBE-1B93-4C0E-B6FB-0B8CCE0E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1131-2439-498F-8C7F-251CBE96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F1C4-0B2F-4AB2-829E-B9D094D46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8C2F-249B-4EBA-9C3F-D5F977952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A5D4-5C65-413F-B2C6-DC023D01B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eb.mit.edu/invent/iow/cade.html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914400" y="457200"/>
            <a:ext cx="6095880" cy="58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6600">
                  <a:solidFill>
                    <a:srgbClr val="00ff00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atorade</a:t>
            </a:r>
            <a:endParaRPr b="0" lang="en-US" sz="1800" spc="1" strike="noStrike">
              <a:ln w="66600">
                <a:solidFill>
                  <a:srgbClr val="00ff00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3341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6600" y="5227560"/>
            <a:ext cx="2054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yle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b. 22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Cade"/>
          <p:cNvPicPr/>
          <p:nvPr/>
        </p:nvPicPr>
        <p:blipFill>
          <a:blip r:embed="rId1"/>
          <a:stretch/>
        </p:blipFill>
        <p:spPr>
          <a:xfrm>
            <a:off x="457200" y="609480"/>
            <a:ext cx="8686800" cy="2679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743200" y="4267080"/>
            <a:ext cx="37339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melson MIT, C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/28/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eb.mit.edu/invent/iow/cad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vention:Gatora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gradFill rotWithShape="0">
            <a:gsLst>
              <a:gs pos="0">
                <a:srgbClr val="6600cc"/>
              </a:gs>
              <a:gs pos="100000">
                <a:srgbClr val="333300"/>
              </a:gs>
            </a:gsLst>
            <a:lin ang="5400000"/>
          </a:gradFill>
          <a:ln w="9360">
            <a:solidFill>
              <a:srgbClr val="3333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ach asked one of Robert Cades associates for help to improve the football players with a new dri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vention got its name from the Florida team Ga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wasn’t hydrating the football players enough for them to play w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atorade was invented in 196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de finally made the winning formula it was made out of water, sugar, sodium, potassium, phosphate, and lemon ju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100000">
                <a:srgbClr val="3333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 Black"/>
              </a:rPr>
              <a:t>Inventor: Robert Ca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100000">
                <a:srgbClr val="333300"/>
              </a:gs>
            </a:gsLst>
            <a:lin ang="5400000"/>
          </a:gradFill>
          <a:ln w="9360">
            <a:solidFill>
              <a:srgbClr val="3333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Arial"/>
              </a:rPr>
              <a:t>Robert Cade was born in 1927 in Flor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Cade was trained at the university o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exas Medical school in Dall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He worked to become a internist and nephrologi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He also went to University of Florida als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 wanted to be a medical researcher also.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28:21Z</dcterms:created>
  <dc:creator>install</dc:creator>
  <dc:description/>
  <dc:language>en-US</dc:language>
  <cp:lastModifiedBy>install</cp:lastModifiedBy>
  <dcterms:modified xsi:type="dcterms:W3CDTF">2011-03-11T18:37:24Z</dcterms:modified>
  <cp:revision>9</cp:revision>
  <dc:subject/>
  <dc:title>Slide 1</dc:title>
</cp:coreProperties>
</file>